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44D-882F-4A46-A613-09B00F72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CBD-BE9E-468C-B7C1-3DCFBC45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F72-32E0-446C-BD0A-1AC9BECB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471-5EBA-443D-80F6-26FD38F8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5AE1-A553-4E9C-8AAD-ACD85CB8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419F-FA9F-40AD-83E7-0AE96545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38C0-52DE-4740-9254-2BC29167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3A6-A212-4679-B8CD-D7C726E0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4C05-E63E-43D8-BC3B-F00E0B91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59E9-DB0E-45EA-874E-07F1B6A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20F1-31B4-422B-AC65-766CD88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2F3-3F05-49C7-B034-EEE620DC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FE7A-0BE7-46A0-BD26-AAEF8D2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8B2-2164-48F7-A7F7-E963934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41E-41E5-4C0B-9E18-8769BCC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0B5-D2EC-4407-BCA0-98C7D5C6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B348-B610-4AE1-AB74-777872B9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0A99-B14F-4C58-980D-C494FC18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AD4C-CD4D-4189-BE5D-BC2B0B2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6688-FFB9-4C43-834D-6317F31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9C08-4853-4E7C-A6CF-71CE46F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2A21-08FA-4F23-A244-AD8DE74A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8A3-A9E2-45B0-89EF-559D691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6445E-B594-48C1-9AD4-FC12E73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D0B6-B299-4416-A9C8-51B780B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B964-8E3A-49FD-8C3F-28CBE99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B02E-406F-436B-817E-11DD901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96F0-7223-496A-AB5D-6D4CB0EB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42F3-CF51-40DD-AD42-08631A8B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ADB3-EF10-4B49-91EA-CD75FE65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3C71-5025-432F-8D91-5D3910DD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ABD5-2286-4E88-84A3-1FD4065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6F97-B876-4F52-A661-C54F20E1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238-5337-49A5-8DAF-7BFD45E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3EE0-95DE-42B8-8EF5-EE2F259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9E23-62FA-406B-AA24-41FAC54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7365-81C9-44A0-A598-10EF675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F38D-D20C-4EA8-AF5B-B23D33A0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E517-107A-4882-AF12-411A523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3A1B-0398-4236-9CB5-8C11D663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C2D5-B2B7-4F2F-98DF-2A348A2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52C6-0B0C-41D0-AF2D-CAFAF362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A6AFB-67A7-4D9A-8013-B8175B1B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E7E-6CB2-4B29-89F9-BC592F64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224-E9F4-4932-A5DF-2FA345EE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A43-BA4D-4954-9DF0-D910188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F0A-132E-4195-BFC2-A085D8F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239-3272-4906-AA23-48F80A54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42D-B312-40AD-AA94-627F36A96B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8B84-0AEA-4173-A861-9EB836F912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36D-CF89-4DD4-9E1B-28019797E9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6E7-5583-4A3D-951A-2A6494CD58E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rnano.org/whati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echnological chan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nprior"/>
              </a:rPr>
              <a:t>throughout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Arnprior"/>
              </a:rPr>
              <a:t>First Wa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99840" y="160020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Agricultural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00BC--1650 --1750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Gina\AppData\Local\Microsoft\Windows\Temporary Internet Files\Content.IE5\MW3F40O8\MCj04355500000[1].wmf"/>
          <p:cNvPicPr/>
          <p:nvPr/>
        </p:nvPicPr>
        <p:blipFill>
          <a:blip r:embed="rId1"/>
          <a:stretch/>
        </p:blipFill>
        <p:spPr>
          <a:xfrm>
            <a:off x="419112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Gina\AppData\Local\Microsoft\Windows\Temporary Internet Files\Content.IE5\0WDKXMXX\MCj02317300000[1].wmf"/>
          <p:cNvPicPr/>
          <p:nvPr/>
        </p:nvPicPr>
        <p:blipFill>
          <a:blip r:embed="rId2"/>
          <a:stretch/>
        </p:blipFill>
        <p:spPr>
          <a:xfrm>
            <a:off x="6248520" y="4952880"/>
            <a:ext cx="2341440" cy="15573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685800" y="220968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production and consumption of food, hunting &amp; gathering, families self-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Extended; families tend to live on same land, close k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home schooling, one-room school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astes &amp; classes, authoritarian &amp; birth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Energy from sun, wind &amp; water  “Living Batteries”, “energy slaves”; forest, rivers, people and animals could b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: Oral and Ges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C:\Users\Gina\AppData\Local\Microsoft\Windows\Temporary Internet Files\Content.IE5\MQB3RDI1\MCj01983040000[1].wmf"/>
          <p:cNvPicPr/>
          <p:nvPr/>
        </p:nvPicPr>
        <p:blipFill>
          <a:blip r:embed="rId3"/>
          <a:stretch/>
        </p:blipFill>
        <p:spPr>
          <a:xfrm>
            <a:off x="2590920" y="4775040"/>
            <a:ext cx="1417680" cy="208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C:\Users\Gina\AppData\Local\Microsoft\Windows\Temporary Internet Files\Content.IE5\INU31KSM\MCBD09540_0000[1].wmf"/>
          <p:cNvPicPr/>
          <p:nvPr/>
        </p:nvPicPr>
        <p:blipFill>
          <a:blip r:embed="rId4"/>
          <a:stretch/>
        </p:blipFill>
        <p:spPr>
          <a:xfrm>
            <a:off x="457200" y="5181480"/>
            <a:ext cx="1760400" cy="925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1"/>
          <p:cNvSpPr/>
          <p:nvPr/>
        </p:nvSpPr>
        <p:spPr>
          <a:xfrm>
            <a:off x="5334120" y="685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d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nprior"/>
              </a:rPr>
              <a:t>Second W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19810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mass production of food, trade, stores, corporations (190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Nuclear (2 parent-home), extended families dist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mass education, factory/assembly line focuses: rote &amp; repetitive work, punctuality, obe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risis &amp; strikes, coup d'états, w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factories, assembly lines, refrigerator in kitchens, vitamins(increased life expectancy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, transportation, tractors, post office (1837), telephone, typewriters, newspapers, 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867280" y="1143000"/>
            <a:ext cx="19051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50-1950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1600200" y="13716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Industrial</a:t>
            </a:r>
            <a:r>
              <a:rPr b="1" lang="en-US" sz="1200" spc="-1" strike="noStrike">
                <a:solidFill>
                  <a:srgbClr val="000000"/>
                </a:solidFill>
                <a:latin typeface="Arnprior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Users\Gina\AppData\Local\Microsoft\Windows\Temporary Internet Files\Content.IE5\INU31KSM\MCj02979850000[1].wmf"/>
          <p:cNvPicPr/>
          <p:nvPr/>
        </p:nvPicPr>
        <p:blipFill>
          <a:blip r:embed="rId1"/>
          <a:stretch/>
        </p:blipFill>
        <p:spPr>
          <a:xfrm>
            <a:off x="762120" y="4724280"/>
            <a:ext cx="1670040" cy="1497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Gina\AppData\Local\Microsoft\Windows\Temporary Internet Files\Content.IE5\4W14BUGV\MCj02374860000[1].wmf"/>
          <p:cNvPicPr/>
          <p:nvPr/>
        </p:nvPicPr>
        <p:blipFill>
          <a:blip r:embed="rId2"/>
          <a:stretch/>
        </p:blipFill>
        <p:spPr>
          <a:xfrm>
            <a:off x="2666880" y="4648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Program Files\Microsoft Office\MEDIA\CAGCAT10\j0233312.wmf"/>
          <p:cNvPicPr/>
          <p:nvPr/>
        </p:nvPicPr>
        <p:blipFill>
          <a:blip r:embed="rId3"/>
          <a:stretch/>
        </p:blipFill>
        <p:spPr>
          <a:xfrm>
            <a:off x="5105520" y="48006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C:\Users\Gina\AppData\Local\Microsoft\Windows\Temporary Internet Files\Content.IE5\MW3F40O8\MCj04355980000[1].wmf"/>
          <p:cNvPicPr/>
          <p:nvPr/>
        </p:nvPicPr>
        <p:blipFill>
          <a:blip r:embed="rId4"/>
          <a:stretch/>
        </p:blipFill>
        <p:spPr>
          <a:xfrm>
            <a:off x="7467480" y="4343400"/>
            <a:ext cx="1432080" cy="175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nprior"/>
              </a:rPr>
              <a:t>Third W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440" y="1905120"/>
            <a:ext cx="8001000" cy="36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conomy: oil and gas production (foreign), money exchange rates, global industries (trade &amp; trave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Family structure: 2 working parent families, single-parent families, grand-parent /grand-child famil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Education: computer labs, online courses (virtual schools), LCD projectors, CD, inter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olitics: capitalism, socialism, communism, world governments: UN, EU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Production: increased flights, cars &amp; busses, space exploration, drug &amp; vacci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ommunication/Technology: computers/laptops, internet, cell phones, webcams, instant messag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943600" y="1143000"/>
            <a:ext cx="19810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50-presen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1523880" y="137160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nprior"/>
              </a:rPr>
              <a:t>Informational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aptop"/>
          <p:cNvSpPr/>
          <p:nvPr/>
        </p:nvSpPr>
        <p:spPr>
          <a:xfrm>
            <a:off x="4572000" y="51814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Gina\AppData\Local\Microsoft\Windows\Temporary Internet Files\Content.IE5\0WDKXMXX\MCj04125660000[1].wmf"/>
          <p:cNvPicPr/>
          <p:nvPr/>
        </p:nvPicPr>
        <p:blipFill>
          <a:blip r:embed="rId1"/>
          <a:stretch/>
        </p:blipFill>
        <p:spPr>
          <a:xfrm>
            <a:off x="6705720" y="4740120"/>
            <a:ext cx="1981080" cy="188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Gina\AppData\Local\Microsoft\Windows\Temporary Internet Files\Content.IE5\JE1JKFGT\MCj04239940000[1].wmf"/>
          <p:cNvPicPr/>
          <p:nvPr/>
        </p:nvPicPr>
        <p:blipFill>
          <a:blip r:embed="rId2"/>
          <a:stretch/>
        </p:blipFill>
        <p:spPr>
          <a:xfrm>
            <a:off x="533520" y="5105520"/>
            <a:ext cx="1866960" cy="1517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Gina\AppData\Local\Microsoft\Windows\Temporary Internet Files\Content.IE5\MW3F40O8\MCj04043590000[1].wmf"/>
          <p:cNvPicPr/>
          <p:nvPr/>
        </p:nvPicPr>
        <p:blipFill>
          <a:blip r:embed="rId3"/>
          <a:stretch/>
        </p:blipFill>
        <p:spPr>
          <a:xfrm>
            <a:off x="2514600" y="5025960"/>
            <a:ext cx="1803240" cy="152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Arnprior"/>
              </a:rPr>
              <a:t>Fourth Wa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1760" y="21337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ext wave will be what Dr. Thornburg &amp; Dr. Dede both predict. It will be a wave of creativity found through new innovative technologies; nano &amp; biotechnologies.  “It will offer better built, longer lasting, cleaner, safer, and smarter products for the home, for communications, for medicine, for transportation, for agriculture, and for industry in general.”  --Center for Responsible Nanotechnolo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01992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943600" y="11430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prior"/>
              </a:rPr>
              <a:t>Near futur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914400" y="16002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nprior"/>
              </a:rPr>
              <a:t>Nano/biotechnology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nter for Responsible Nanotechnology (CRN)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crnano.org/whatis.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de, C. (Speaker). (2008). The Next Wave, Part 2. Laureate Education, Inc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rnburg, D. (Speaker). (2008). The Next Wave, Part 1. Laureate Education, In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ffler, Alvin. (1980). The Third Wave. New York: Bantam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52:53Z</dcterms:created>
  <dc:creator>Gina</dc:creator>
  <dc:description/>
  <dc:language>en-US</dc:language>
  <cp:lastModifiedBy>Gina</cp:lastModifiedBy>
  <dcterms:modified xsi:type="dcterms:W3CDTF">2009-03-16T01:40:49Z</dcterms:modified>
  <cp:revision>52</cp:revision>
  <dc:subject/>
  <dc:title>Strand One: Toffler’s Three Waves</dc:title>
</cp:coreProperties>
</file>